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C5331-61E4-44B0-BB90-74C85109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8F02E-9AE2-431E-A4DB-04557DF8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17218-FBAD-4174-8B83-94B89097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A1DFC-3674-439A-B15B-A8714CAC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63C8-BFBA-4192-A320-E667A920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6A9F-3411-4B10-9508-D361667C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7D2D-B410-4934-AE69-8934103C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6B42-14AE-41F2-9D34-23A24C9C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59AA-1F89-4DA9-978B-0FEECA8A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66E1-E0A6-4869-B300-1BB6447C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E933-8DC7-4D63-A83D-B3F734A5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B3736-83C5-425B-B281-43A895D6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3D15-CBEE-4DBE-AFBE-D996C08B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C4B5-EA59-4EF4-A1F7-A80E82E5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7C1A-A813-42C8-A962-A131BA7D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D9F2-EE17-43D4-82FD-6E883E10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8602-24C0-45A9-B31D-B82B29B8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7943-B2FA-4328-ABD8-3A545088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876B3-2491-447B-BF2A-C0A34CFD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500EE-2ED6-41A1-955C-7CAC54C2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BD2D9-AFFB-43D2-9366-7F5E87FC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94112-AA5C-40C0-B068-00ADE43A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605D0-D236-4B4B-B0D1-81AD050A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E6814-9314-4495-A2D7-982F51FA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E883-1ED5-47A7-A333-4A565219BB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5AE5-8F0F-4A29-90D3-0BEFE1BC6B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16000" y="2637000"/>
            <a:ext cx="583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aramond"/>
              </a:rPr>
              <a:t>Зачем нужны дроби?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Garamond"/>
              </a:rPr>
              <a:t>Авторы и участники проекта:</a:t>
            </a:r>
            <a:r>
              <a:rPr b="0" lang="ru-RU" sz="3200" spc="-1" strike="noStrike">
                <a:solidFill>
                  <a:srgbClr val="89898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2944"/>
                </a:solidFill>
                <a:latin typeface="Garamond"/>
              </a:rPr>
              <a:t>Группа </a:t>
            </a:r>
            <a:r>
              <a:rPr b="1" lang="ru-RU" sz="3200" spc="-1" strike="noStrike">
                <a:solidFill>
                  <a:srgbClr val="e91b05"/>
                </a:solidFill>
                <a:latin typeface="Garamond"/>
              </a:rPr>
              <a:t>«Историк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2944"/>
                </a:solidFill>
                <a:latin typeface="Garamond"/>
              </a:rPr>
              <a:t>Группа  </a:t>
            </a:r>
            <a:r>
              <a:rPr b="1" lang="ru-RU" sz="3200" spc="-1" strike="noStrike">
                <a:solidFill>
                  <a:srgbClr val="e91b05"/>
                </a:solidFill>
                <a:latin typeface="Garamond"/>
              </a:rPr>
              <a:t>«Исследовател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50920" y="260280"/>
            <a:ext cx="5959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ff"/>
                </a:solidFill>
                <a:latin typeface="Garamond"/>
              </a:rPr>
              <a:t>Как возникли                   дроби?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ff"/>
                </a:solidFill>
                <a:latin typeface="Garamond"/>
              </a:rPr>
              <a:t>Результат анкетирова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Garamond"/>
              </a:rPr>
              <a:t>В опросе участвовало 52 челове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buClr>
                <a:srgbClr val="00ff00"/>
              </a:buClr>
              <a:buSzPct val="12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1302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41302"/>
                </a:solidFill>
                <a:latin typeface="Garamond"/>
              </a:rPr>
              <a:t>«Да»</a:t>
            </a:r>
            <a:r>
              <a:rPr b="1" lang="ru-RU" sz="3200" spc="-1" strike="noStrike">
                <a:solidFill>
                  <a:srgbClr val="ff00ff"/>
                </a:solidFill>
                <a:latin typeface="Garamond"/>
              </a:rPr>
              <a:t> ответили – </a:t>
            </a:r>
            <a:r>
              <a:rPr b="1" lang="ru-RU" sz="3200" spc="-1" strike="noStrike">
                <a:solidFill>
                  <a:srgbClr val="f41302"/>
                </a:solidFill>
                <a:latin typeface="Garamond"/>
              </a:rPr>
              <a:t>49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buClr>
                <a:srgbClr val="00ff00"/>
              </a:buClr>
              <a:buSzPct val="12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0514"/>
                </a:solidFill>
                <a:latin typeface="Garamond"/>
              </a:rPr>
              <a:t>«Нет»</a:t>
            </a:r>
            <a:r>
              <a:rPr b="1" lang="ru-RU" sz="3200" spc="-1" strike="noStrike">
                <a:solidFill>
                  <a:srgbClr val="ff00ff"/>
                </a:solidFill>
                <a:latin typeface="Garamond"/>
              </a:rPr>
              <a:t> ответили – </a:t>
            </a:r>
            <a:r>
              <a:rPr b="1" lang="ru-RU" sz="3200" spc="-1" strike="noStrike">
                <a:solidFill>
                  <a:srgbClr val="000514"/>
                </a:solidFill>
                <a:latin typeface="Garamond"/>
              </a:rPr>
              <a:t>3 челове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Garamond"/>
              </a:rPr>
              <a:t>Задачи, решаемые родителями в своей профессиональной деятельност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одитель – дальнобойщик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Я отправился в рейс из пункта А в пункт В, расстояние между которыми 369 км. В 13 ч 30 мин я проехал девятую часть пути. С какой скоростью мне нужно ехать, чтобы прибыть в фирму до её закрытия (закрывается в 18 ч)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Повар:</a:t>
            </a:r>
            <a:br>
              <a:rPr sz="4000"/>
            </a:br>
            <a:r>
              <a:rPr b="1" lang="ru-RU" sz="4000" spc="-1" strike="noStrike">
                <a:solidFill>
                  <a:srgbClr val="9900ff"/>
                </a:solidFill>
                <a:latin typeface="Garamond"/>
              </a:rPr>
              <a:t>Для приготовления борща из 500 грамм мяса необходимо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8360" y="2133720"/>
          <a:ext cx="5008680" cy="4236840"/>
        </p:xfrm>
        <a:graphic>
          <a:graphicData uri="http://schemas.openxmlformats.org/drawingml/2006/table">
            <a:tbl>
              <a:tblPr/>
              <a:tblGrid>
                <a:gridCol w="2271600"/>
                <a:gridCol w="27370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Garamond"/>
                        </a:rPr>
                        <a:t>               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Garamond"/>
                        </a:rPr>
                        <a:t>Рецепт борщ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век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0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пу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оренья и лу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Томат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Фас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Garamond"/>
              </a:rPr>
              <a:t>Рассчитайте расход продуктов на приготовление борща из 3 кг мя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28760" y="1844640"/>
          <a:ext cx="5000400" cy="4818240"/>
        </p:xfrm>
        <a:graphic>
          <a:graphicData uri="http://schemas.openxmlformats.org/drawingml/2006/table">
            <a:tbl>
              <a:tblPr/>
              <a:tblGrid>
                <a:gridCol w="2500200"/>
                <a:gridCol w="2500200"/>
              </a:tblGrid>
              <a:tr h="552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Рецепт борщ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век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пу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оренья и лу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Том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Фас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?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886e0"/>
                </a:solidFill>
                <a:latin typeface="Garamond"/>
              </a:rPr>
              <a:t>Электрик: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63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Длина провода 12 м. На ремонт стальной лампы израсходовал ¼ этого куска. Хватит ли мне оставшегося провода, чтобы заменить проводку в комнате размером 3х4 (замену нужно произвести по двум смежным стенам)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Garamond"/>
              </a:rPr>
              <a:t>Вывод!!!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Garamond"/>
              </a:rPr>
              <a:t>Людям разных профессий необходимо уметь решать задачи на дроби, знать правила сложения и вычитания, умножения и деления дробе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9900cc"/>
                </a:solidFill>
                <a:latin typeface="Garamond"/>
              </a:rPr>
              <a:t>Спасибо за внимание!!!</a:t>
            </a:r>
            <a:br>
              <a:rPr sz="8800"/>
            </a:b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93333"/>
                </a:solidFill>
                <a:latin typeface="Garamond"/>
              </a:rPr>
              <a:t>«Историки»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ПРЕДСТАВЛЯЮТ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!!!!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ff"/>
                </a:solidFill>
                <a:latin typeface="Gill Sans Ultra Bold"/>
              </a:rPr>
              <a:t>«Как возникли дроби»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Первые источники о дробях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cc00ff"/>
                </a:solidFill>
                <a:latin typeface="Arial Black"/>
              </a:rPr>
              <a:t>Египетский математический кожаный свит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Московский математический папирус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длина составляет 5,40 м, а его ширина от 4 до 7 см. (Он был составлен около 1850 до н. 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Деревянная табличка Ахм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0514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Garamond"/>
              </a:rPr>
              <a:t>папирус Ринд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свиток длиной 5,25 м. и шириной 33 см. (ок. 1650 до н. э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Дроби!</a:t>
            </a:r>
            <a:r>
              <a:rPr b="1" lang="ru-RU" sz="4400" spc="-1" strike="noStrike">
                <a:solidFill>
                  <a:srgbClr val="cc00ff"/>
                </a:solidFill>
                <a:latin typeface="Garamond"/>
              </a:rPr>
              <a:t> Какие они в Древнем Вавилоне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Шестидесятеричные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и обозначались: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пример, время 3 ч 17 мин. 28 с можно записать и так: 3,17'28" ч (читается 3 целых, 17 шестидесятых 28 три тысячи шестисотых часа)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Garamond"/>
              </a:rPr>
              <a:t>Отношение к дробям в Древней Греци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считали, что </a:t>
            </a:r>
            <a:r>
              <a:rPr b="1" lang="ru-RU" sz="3600" spc="-1" strike="noStrike">
                <a:solidFill>
                  <a:srgbClr val="cc00ff"/>
                </a:solidFill>
                <a:latin typeface="Garamond"/>
              </a:rPr>
              <a:t>дроби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 можно использовать только в </a:t>
            </a:r>
            <a:r>
              <a:rPr b="1" lang="ru-RU" sz="3600" spc="-1" strike="noStrike">
                <a:solidFill>
                  <a:srgbClr val="cc00ff"/>
                </a:solidFill>
                <a:latin typeface="Garamond"/>
              </a:rPr>
              <a:t>логистике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. Впервые встречается общее понятие дроби вида </a:t>
            </a:r>
            <a:r>
              <a:rPr b="1" i="1" lang="ru-RU" sz="3600" spc="-1" strike="noStrike">
                <a:solidFill>
                  <a:srgbClr val="00ff00"/>
                </a:solidFill>
                <a:latin typeface="Garamond"/>
              </a:rPr>
              <a:t>m/n.</a:t>
            </a:r>
            <a:r>
              <a:rPr b="1" i="1" lang="ru-RU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Rockwell Extra Bold"/>
              </a:rPr>
              <a:t>Где стали записывать дробь с помощью числителя и знаменателя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852640"/>
            <a:ext cx="8218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Garamond"/>
              </a:rPr>
              <a:t>Современную систему записи дробей с числителем и знаменателем создали в Индии. Только там писали знаменатель сверху, а числитель - снизу, и не писали дробной черты. А записывать дроби в точности, как сейчас, стали араб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ff"/>
                </a:solidFill>
                <a:latin typeface="Garamond"/>
              </a:rPr>
              <a:t>«Исследователи»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ff00"/>
                </a:solidFill>
                <a:latin typeface="Garamond"/>
              </a:rPr>
              <a:t>Профессия и дроби!!!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ff"/>
                </a:solidFill>
                <a:latin typeface="Garamond"/>
              </a:rPr>
              <a:t>Цели исследования: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Доказать, что людям разной профессии нужны дроб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Garamond"/>
              </a:rPr>
              <a:t>Результаты исследовани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В ходе исследований было проведено анкетирование родителей всего класса, с целью выяснения использования дробей в его професс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4:57:13Z</dcterms:created>
  <dc:creator>Admin</dc:creator>
  <dc:description/>
  <dc:language>en-US</dc:language>
  <cp:lastModifiedBy>26518</cp:lastModifiedBy>
  <dcterms:modified xsi:type="dcterms:W3CDTF">2010-05-28T04:14:20Z</dcterms:modified>
  <cp:revision>6</cp:revision>
  <dc:subject/>
  <dc:title>Зачем нужны дроби?</dc:title>
</cp:coreProperties>
</file>